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F68C-EDD0-4675-9B92-8C410D59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C2F1-B7AB-4BC8-9612-258E38FA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D9D94-46EB-4F5F-8F10-4A32B02D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669D0-D8B1-4D68-B7EF-80F82C8C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89B9F-D893-4581-9846-5BFE4073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B03B3-2DA9-4F8F-9403-A06D8A01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541DA-6F0D-4D16-B308-D140F6ED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8A37B-D8BA-4F69-B4C8-65C666F1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12002-7058-4D14-8D4F-43CFDF36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9E254-33C3-4343-9BBE-295950E1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38CDB-7145-4B45-A6F0-375AAFDB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5A67C-6823-4E29-990A-C75E283F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3A5-8576-4D3A-83BD-8BB8FB53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78D44-6924-4604-8D26-B5BA7B87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DF35C-525D-4777-8B1A-6480BEA9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8490B-E404-413C-AC7D-3F13704B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C3CE9-E270-49D7-8F38-927AC630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687D1-09BF-4BC0-BCE9-47A4FA68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06341-9EE1-40F0-B31A-15D2F2AD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8AA22-97B0-4E1F-BFBC-FACAEAB4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88BAE-E87D-441A-A695-DCF4A5F3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F92F3-99A6-446D-AE8B-D13EBC69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72C43-D7D1-4EC5-ABE7-78D7E9B4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9CB-DFC9-4818-A967-52AFE4FF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92716-1CC1-46F6-B959-C3DF14C3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BFF11-18E7-4B01-BF3B-C95D7F05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A0F2F-8586-4EB2-9B6E-9A5C08CD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0FC89-BBC8-4FB8-8E34-FEB7DCB8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F359E-0CC4-4E60-9C7B-836A69D6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8E773-A069-4111-A7DB-FDD0822F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2CBEA-ECA4-4F52-AA37-32D136F4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FF54E-AB5A-4226-BF62-71DB9FED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38592-4FD5-4F8D-BE77-C694A464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D9128-F7A7-43BC-9BCB-051B3BF3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7A86-ADFA-4C72-B8AF-21E933D1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E5595-38F5-4147-B22C-3BFD7EAA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7060C-6D26-415C-BDCA-AC7A1F4C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CD86E-E911-46EA-9DBF-58D4F51B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D92CE-B824-4990-93E2-0FD868F2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16193-0830-49EA-A131-DD3147E8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A2829-A8BC-461B-9160-B7CE4353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B655C-C40C-4892-8D83-3DF77FBB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5DB8F-1BF8-417C-B5CC-DAE609E3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669C2-E3C8-4C08-9D14-50AB1A8A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BF59A-1EA0-4B40-9AA9-F490FCE6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5C65-454D-4024-A774-8D0ADB49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91EBC-413E-4BAA-82E8-5E8C3D5A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C69D0-2011-4CBD-9701-A305CE8C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4D9CE-249D-4D67-9117-E80BE5DF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5B6A5-32F7-4AAE-8B1B-A22281BD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C1099-43C2-4E07-BF64-8EB4A276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D6E283-DBA1-4FA4-A91B-12799CCD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20EC80-5366-4693-86E3-6ECFA5B3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B9BAE2-DD52-4CB8-AD73-B684AE6C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E014BE-3AF1-479E-AA85-E8166C18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3B6F5B-B7A0-469C-9CC3-CFEE27A8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5561-38F8-4064-B637-5CBDD44B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229D9-DE59-460A-91E3-DE544025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6F6CE6-553F-49AA-A87B-96A7FB65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B81E3-D41D-43EB-96EE-8EBDDE2C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5051F-AF7F-41DA-A7B5-6F395FD0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F1768A-563D-4258-9175-FEF3E59C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971BD-DFD8-4593-B4C1-6C2E3FFB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947960-2EE5-4009-83FF-8BDA6280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97D10-98D1-4F2B-BAF4-67F91DE8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DBC1F4-F743-47BE-89CA-C2C53F1B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E282D3-728E-4EDE-83A3-AA37D7D2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75CF-E031-4774-95C1-D7A7C7B7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CD91DB-2BAF-477D-B88E-E126E5C0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9B020F-FEE8-4278-A824-7501DA74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D5053E-363D-4921-9642-2B3770EC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34C81C-563F-44F8-BCEA-48B8AE18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545E9E-25EC-449A-9894-6CA5DA0F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0A7254-37D7-4C10-94D9-3AE46D4A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531E76-91E1-4AA5-89FD-2BB76626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2A41D2-D4C9-4409-A629-4DA58866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AE65F-7E25-4B1A-B081-DCDCF2D8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232F7-1B87-4403-9272-371BD616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CCE3-D581-4A78-81BD-A16518C9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138729-EAEE-4E69-AB64-D8BEE364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092C0F-75DC-416B-89C3-F5E46A22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C6DB76-0927-4B64-8A4F-70C04394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AA6393-13DA-4C96-BE08-D51400FA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DE1179-F3DE-4C0E-84EE-37572306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CCB7F0-E526-4926-AE56-51C03ACF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260A43-1A27-493A-B100-4803904D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A87837-AFD7-41C5-9649-EA9EDB87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8E9AB0-9C51-4E60-B3FD-7E5FC92D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78328C-101D-46C9-9680-540D3404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5785-54D6-4A33-92D7-F271D42E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B8AEB1-7802-4A80-9E16-BC82F1C4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85A7D0-E5C4-4BD1-8AD5-58385346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340455-B848-4EA6-93B9-A7B6595C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487DA0-1EAA-4DE0-B21B-865C2F39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C08C64-0039-422C-BAE3-6B4AF060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E5FA0-A147-46FA-AD04-EDE7E389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7D4057-03AD-4DD8-A357-E58D6629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740006-8E1C-43A0-B434-E6EAA03B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8F29C8-E887-418B-9345-C7DA8F07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DDD390-E8D6-4FD2-8D6E-37AE466D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9E12-E72E-47A3-858C-D09C39F7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9A0DBF-32B3-43C0-A6E7-454FE3F0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95516-70B1-410E-A8A2-E567F24D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91A4BC-06EB-415C-BCB5-F396E9E2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C7CC5D-0935-4194-BE99-39E3FEAB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309467-B50C-4D6A-A2BC-D29E678D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21E08E-56C1-4D4B-9142-C89EEE18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C92034-D7CC-426B-81B3-9CE3901F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4F2F89-610C-400B-AD02-FC687F79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FFACC2-93A3-4933-8269-E64C02AE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5C78B3-72AD-4810-80FA-CCD9A1DA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FFD1-6CDF-4085-B80F-EF30BD51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47A3-C2BB-48F7-94CA-7BC5B63E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AA65F9-92E3-4CC7-8797-736CA1B3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7503FA-ED7C-4E8C-84A5-1933FDFA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5F2061-8DA4-4A7E-BF4C-CC8BC761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11FE2E-2C11-4258-A9FB-ED496E04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7ED830-CD86-4D25-9562-9508C1B2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8EEBCB-ACB0-4804-A9B5-6FB47740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7893E3-B8C7-4185-AAEC-7A163710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B37329-2491-4427-A498-D08B0EF4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3B0085-4C8D-45DB-84C5-B7373BBD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E7A180-8771-4122-862A-7ED31E3B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D302-BA2C-4036-ADD8-513B616A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C424F0-FA63-4AFD-8805-4D31984C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119468-7B5B-4DD7-B479-0155562E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AAA5D0-1F23-43AE-96F3-E2B4CE83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21E091-8954-4209-9C6C-D0777417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523E21-822A-475B-BF9C-FA56D193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D933C5-68BE-489E-901D-2DE10E18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58C9B4-DF96-4654-811C-B4490705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826DF0-82A3-4E91-B370-2ED5BCCF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CFCE85-341C-479F-B552-CDDE92B8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EEC0AD-6858-4ED9-AE43-B5173EA2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31C5-DE0A-4BD3-82A5-8D7CF9FD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64AC16-32DA-4D30-A57E-37429485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3836A3-F505-4EBF-8C42-B9F95BA1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A112CA-2EDC-45B2-ACA9-FB08A2AD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B9E9FC-4557-4E49-9D31-14C8D569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2E5223-DD8B-4E05-85E5-3BEE7194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44C4BB-9E35-494E-BF89-57F8B106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674B80-C378-46E2-A25B-5950FF5A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AC3004-256A-4A18-A9C5-AC003EAA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92F0F6-6F1A-4035-A2FA-19A158AB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E30C07-8B23-4C4C-91B3-FC10F8C8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9F06-2162-44CE-BAB8-9968C1D6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D9B5CA-0CCD-4FAC-ADE7-FBAE7D09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03B1A9-892E-4F62-AB50-117FED0B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0A951C-D29C-44D2-AE55-714F8D08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23D5A4-D553-4736-B839-C6F9E07E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6D55A7-34A7-41C6-A2CD-B162C6BB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484857-7FEF-4EF4-9583-DFB76459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EB1643-B467-4761-8121-CB0DD2FF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0991F4-583F-4F66-AD1E-4B5261B2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0613A2-E9AB-4EC9-963D-66F1CB80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117CC5-939D-4C57-A511-8526744C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7CEB-E173-49C5-A569-015ECC34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1AA7FC-8F72-4BAA-AFD0-87EED934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E849B8-BAEE-4638-87CB-428CAD2F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3554E1-0C3B-4734-A8B8-A70CC449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145173-7E5F-4BCD-9161-B972EB27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1B1B36-D16C-4431-9AC2-6BB47999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1DABFD-5C4C-47FC-A685-239BC7F3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0454DB-E642-4F14-A85C-A1076D49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1F40E3-4FEF-4376-B446-C540F1AD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A12F7D-BD8F-468D-A18F-89EF9E9F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30C70A-219B-4690-99AB-D25BA387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2CDAF-D39C-4D73-B2FA-1E8D74AB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9E953F-1ADD-4491-9235-653760ED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E53259-C300-442D-A112-217122E9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09CDA9-A718-4515-AA6D-BF791555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E3CA24-3277-46B7-A378-27B923D2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DFFADE-5880-4189-B61D-B7DF4248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5F9137-10E3-4746-8C15-3F52679B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6468B2-5DD5-4151-9D7B-BE3E7661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038621-C827-4AE0-81DB-ACF16019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6EF871-00E7-4CE0-85CA-2560E395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AE6B89-40BE-450C-A074-4987C3FA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D4D9C-D4AC-454F-AC69-9FBDB3E9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705614-6B73-4A49-93CF-8FFD0C35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2DE6F2-3989-4C68-B35A-3337DEFF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D35830-6C69-4E39-9A58-735DF645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EA7A51-A2CB-4000-AC0D-A64E9F17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712669-37F9-4530-A5D9-E4C9FD12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D81F3A-A039-4D30-B6D6-C4E39EE1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E03843-995F-4431-A81D-D7C64DFF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6ABCF0-0864-4532-89D7-7F3E79A0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886718-5FF1-4E3B-A5C1-148CAEB8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C02CD5-2C10-47C4-B338-C551809B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8DDC6-BF01-4241-85AC-46795B11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2CD3D2-67CB-428F-B73B-F4A86A46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823181-7E03-41BC-A3CB-EB3666CC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9A662C-4D52-47BC-856B-A18C0CFF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E52F71-ADD2-4894-A30D-059B471C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E23E05-AA0D-4450-9ED9-0EAC71A2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95AECB-8AB5-45D6-BFB1-5F6ADA7A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52F5AA-9452-4FBA-8607-3C7F1700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1545-5F74-41E3-89CD-3A05E2EB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EF91D-623C-4DF9-8B3A-E2483C14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256-4088-4FC0-9C81-5E2E31F4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06968-1BC0-4B82-8775-593D9C65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7F622-039F-4D56-A238-BEEB8081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E4AAD-4B12-4DC1-8235-A8EDC830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F2138-264B-4F44-B952-DA755B6A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174E4-EAE1-4781-84BA-73BBEA04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7DA66-7649-4E4C-9021-C906BB35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E6D33-DCA4-458C-B162-2A1657B5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52976-8F23-4DF6-BF92-815CC21E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A1C66-3417-4ADE-8AA4-5A7AE201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C9CF7-25DD-48B5-B8C0-5942C08D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8E3-5C1B-47B3-9AA8-AAA06CE1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25311-765C-406E-BD4F-DC6AB8E0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F9E0D-719D-41C6-8E82-EE8B0C14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C0524-DEE2-4D4C-85F3-82592000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0D305-DEDC-4D1A-A5B0-621863E5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10874-D398-4715-A5BE-D301ABC7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4562A-62E6-47D6-8852-608A4D40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DDE23-BFF8-4E30-86FA-F18A9EE9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1EFB3-0DEA-4B9D-96E5-43D52DCD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3E059-5B7A-44F9-B7BE-E804CAEE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50EF4-9CB8-4C8D-9E75-C66CFE01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6E2-646B-4FC8-BB32-A7FD7BD7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301C8-ED2C-4CB2-B549-9818018D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A45AD-97DB-49D3-A3BB-EA7D8CD8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ACF47-5A7C-4A12-AE07-DC13A313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5422B-FF70-4553-B745-AAD3B39E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5FC94-551C-4222-A747-BA33DFDA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72672-0B36-4B07-8B2A-0980070A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215D3-0389-4F58-8853-66C44CBA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46135-08C4-42F9-95FF-D1B5CE39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476FA-324F-4C5E-868E-459BACEA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F7EB0-A631-4630-9E16-A2CDD210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874D-E2B9-4142-8B3F-D12FB0C6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DFC04-C069-4B9C-AFD0-B41DA036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086F4-FA74-4CB1-B742-ED2D139C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177AE-B458-4F5C-84C2-2FBEE7F6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9F492-4D6C-4093-821A-3C8B5193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7E517-9EAA-4B05-AE4C-6CEDBF65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2E890-3A34-4503-AEDA-7A37DA5F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2007D-3E17-44F6-B390-F7C058E3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081D4-02B7-47AD-A17F-3A937D56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EB9A9-AFCB-4F76-B188-615FF5E4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ABF01-1F7F-48EC-B9E3-07D6643D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1A6-6568-4A43-94A0-0C252CB3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1BDCA-3DBC-45DD-BBB5-E41ACE1E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A19DC-D964-41D1-A6B6-68E742AE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C259E-0EEC-44D4-97DF-615373A1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D6ED6-CFE9-4547-9071-A3D61821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74AB4-4169-4D75-81D0-49D1A625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5F4A7-B2E6-4134-8869-CAB750E5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80F56-EC6E-4B6C-9018-4DCA25EF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9AFD3-4E3D-4689-96F3-15C7C424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CC1B4-C67C-4D94-B108-5C5FB0A2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702C3-6CD0-49E4-B81D-D01692B3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8DD-CC1A-4427-9AB3-FD2E74BE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15DDB-3AA7-4902-AB51-864CB104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812A8-4FA1-4875-83D3-2C2EA6A8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03D5F-A8BF-4A8C-BC0D-D664B311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0EA91-A058-4E68-8677-01FE5123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D9D2F-D7DF-4C59-A284-1B61778E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1678A-1BD2-4219-BD00-97381384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9FB9C-6BBD-4B2F-9F24-008EB3CE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BB9D6-A3C5-4D76-B0BB-F087ABE3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82462-B5A1-4532-B029-81B3ACE5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F9F42-68D9-4E4A-A5CE-AA950A37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709B-F141-4C36-BC13-8AE83DB6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69435-AC41-4F07-982C-5DDEB7CA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57801-40A2-44F5-ACEF-44DB531F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F86FA-DB4A-4331-BB46-F7358B07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6239E-590E-4048-9853-92E257C6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58963-F92A-43F1-8211-1EEC602A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A90EA-FC69-4128-A38F-205CDFD5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F91BF-533A-48CD-9838-04E98834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1B42A-2E5B-4BCD-B214-75E42417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9EAAC-7565-4FB6-8484-24D3CEF1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46088-D4C4-4706-BB72-06F7EB02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D928-6A70-4612-93D7-61139435B4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D9AC-6B1E-4516-8288-AFCEDD67D8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2A94-1516-4B54-9022-12F11ECB9F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9601-1B3B-4AD9-AC93-255B990FF1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548D-AB1F-41F9-AFBB-9B27EFA82B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F1C4-B6AB-43FD-910C-735292E02E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1160-D36D-4C07-A032-7884E57392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F7F8-741C-4D47-8626-08B123CB68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9529-E25A-41BD-AAD3-152FCFBA87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8A9A-54DD-4F51-BBC6-2ED621281D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73FB-2C63-453B-8950-A75BE364DA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0E1A-5747-4A0A-A6C7-CDBA666981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B69E-CCD2-4F98-8B2B-A9FA2BF919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FEBD-F1B5-44B1-8A9E-4FBFF47CE0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0B10-E13D-428E-A395-0930F3F3D2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F85E-B6C1-4879-A156-805143CFB9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ECD6-29E5-4180-A49A-33D096E408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0593-B11E-4EB9-9DE8-A5EE7F82C8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6C02-B13C-43B6-BE8E-FB652BACB8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62C7-FF81-431D-B46C-C8D1DFC767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82DC-6BBE-4C8D-AE19-D1D04CCB9C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81E4-FC38-4D1F-AF56-BC0E6BE5ED2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170D-E0FF-41B9-B937-27F473A9BE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3932-9B0D-472D-96C9-F5E44BFDFD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135E-6CB2-4FB7-81D8-F5127F5406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A69B-B79A-487B-9B7E-C3A71DD885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D9F8-929E-4ED8-9926-94958B4F91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F611-9094-4BE0-8F03-2262A56B29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86AE-490E-45AE-A063-E33D40D8BE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876F-F744-45C1-A81F-C7C00036DC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5584-AE36-41A4-8124-ED7FCF640D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543F-8721-4135-9E4C-CA867C6F04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D885-D1C8-4351-9486-7BE81FE5BB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071F-8D89-4D2E-ABB9-797DD81578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4F6F-78C4-4A50-BB8A-6BED65422C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6734-8420-4A10-8BD0-D40F5E08EA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EAC0-C7A5-46D6-B3CA-EF4B3AF776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6940-2BAF-475C-968D-2476CD0C77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516F-FDDE-4BD8-9DAE-E4EFF78D11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9870-8DF3-4BE8-8E2B-44EE7BC910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ED4B-E4E8-4965-B4DC-7CC7D41993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5B7D-06E6-4F6A-99B1-AE2F9B7FD8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719440" y="2909880"/>
            <a:ext cx="37051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162000" y="1200240"/>
            <a:ext cx="8820000" cy="44575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2"/>
          <a:stretch/>
        </p:blipFill>
        <p:spPr>
          <a:xfrm>
            <a:off x="7093080" y="3817800"/>
            <a:ext cx="2050920" cy="40644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3"/>
          <a:stretch/>
        </p:blipFill>
        <p:spPr>
          <a:xfrm>
            <a:off x="0" y="4494240"/>
            <a:ext cx="8893080" cy="40644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4"/>
          <a:stretch/>
        </p:blipFill>
        <p:spPr>
          <a:xfrm>
            <a:off x="114480" y="5127480"/>
            <a:ext cx="88930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图片 1" descr=""/>
          <p:cNvPicPr/>
          <p:nvPr/>
        </p:nvPicPr>
        <p:blipFill>
          <a:blip r:embed="rId1"/>
          <a:stretch/>
        </p:blipFill>
        <p:spPr>
          <a:xfrm>
            <a:off x="200160" y="2133720"/>
            <a:ext cx="8743680" cy="25905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2"/>
          <a:stretch/>
        </p:blipFill>
        <p:spPr>
          <a:xfrm>
            <a:off x="179280" y="2147760"/>
            <a:ext cx="8785440" cy="4064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3"/>
          <a:stretch/>
        </p:blipFill>
        <p:spPr>
          <a:xfrm>
            <a:off x="179280" y="2795760"/>
            <a:ext cx="8785440" cy="4060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4"/>
          <a:stretch/>
        </p:blipFill>
        <p:spPr>
          <a:xfrm>
            <a:off x="287280" y="3457440"/>
            <a:ext cx="8785440" cy="4064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5"/>
          <a:stretch/>
        </p:blipFill>
        <p:spPr>
          <a:xfrm>
            <a:off x="201600" y="4105440"/>
            <a:ext cx="878508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37960" y="880920"/>
            <a:ext cx="866808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57320" y="866880"/>
            <a:ext cx="882792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176040" y="833400"/>
            <a:ext cx="8790120" cy="519120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2"/>
          <a:stretch/>
        </p:blipFill>
        <p:spPr>
          <a:xfrm>
            <a:off x="5249880" y="2233440"/>
            <a:ext cx="3851280" cy="4064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3"/>
          <a:stretch/>
        </p:blipFill>
        <p:spPr>
          <a:xfrm>
            <a:off x="250920" y="2881440"/>
            <a:ext cx="2808360" cy="4064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4"/>
          <a:stretch/>
        </p:blipFill>
        <p:spPr>
          <a:xfrm>
            <a:off x="1042920" y="3529080"/>
            <a:ext cx="3024360" cy="4064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5"/>
          <a:stretch/>
        </p:blipFill>
        <p:spPr>
          <a:xfrm>
            <a:off x="7189920" y="3529080"/>
            <a:ext cx="1925640" cy="4064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6"/>
          <a:stretch/>
        </p:blipFill>
        <p:spPr>
          <a:xfrm>
            <a:off x="250920" y="4178160"/>
            <a:ext cx="518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7"/>
          <a:stretch/>
        </p:blipFill>
        <p:spPr>
          <a:xfrm>
            <a:off x="7218360" y="5473800"/>
            <a:ext cx="19256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185760" y="1523880"/>
            <a:ext cx="8771040" cy="38102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2771640" y="1585800"/>
            <a:ext cx="1871640" cy="4064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7524720" y="160020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179280" y="2247840"/>
            <a:ext cx="1189080" cy="4064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5"/>
          <a:stretch/>
        </p:blipFill>
        <p:spPr>
          <a:xfrm>
            <a:off x="7791480" y="2247840"/>
            <a:ext cx="1352520" cy="4064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6"/>
          <a:stretch/>
        </p:blipFill>
        <p:spPr>
          <a:xfrm>
            <a:off x="179280" y="2909880"/>
            <a:ext cx="1800360" cy="40644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7"/>
          <a:stretch/>
        </p:blipFill>
        <p:spPr>
          <a:xfrm>
            <a:off x="7451640" y="3544920"/>
            <a:ext cx="1352520" cy="4064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8"/>
          <a:stretch/>
        </p:blipFill>
        <p:spPr>
          <a:xfrm>
            <a:off x="4067280" y="4192560"/>
            <a:ext cx="115236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" descr=""/>
          <p:cNvPicPr/>
          <p:nvPr/>
        </p:nvPicPr>
        <p:blipFill>
          <a:blip r:embed="rId1"/>
          <a:stretch/>
        </p:blipFill>
        <p:spPr>
          <a:xfrm>
            <a:off x="176040" y="1181160"/>
            <a:ext cx="8790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图片 1" descr=""/>
          <p:cNvPicPr/>
          <p:nvPr/>
        </p:nvPicPr>
        <p:blipFill>
          <a:blip r:embed="rId1"/>
          <a:stretch/>
        </p:blipFill>
        <p:spPr>
          <a:xfrm>
            <a:off x="309600" y="725400"/>
            <a:ext cx="852336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157320" y="885960"/>
            <a:ext cx="882792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285840" y="890640"/>
            <a:ext cx="85723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34:5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